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7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37.wmf" ContentType="image/x-wmf"/>
  <Override PartName="/ppt/media/image38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6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FD5D-E42C-4535-BBA3-8317DE876B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5C36-0C13-4F77-AE91-DA7FD36702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84C-FFFC-4BF2-88A0-F9B375206D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D13-7ED4-418F-95E8-6FACCE13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D28-442D-4166-BFBA-9210FD5C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112-75BF-4C10-831C-66B7F071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E39-493A-4FF6-AD1A-211C5221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18C-A7CA-4AB4-8B67-5A66983A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7BC-B4A1-450E-AB35-FC760431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7FB-58F7-451F-BB90-85BB6C30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DA0-C0E8-4307-8DF8-C098EEE1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A53-AE2B-4B00-B125-F42545F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F57-617E-48A8-8740-034A9F6F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C64-38D0-4729-9DD3-462D874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F4B-C536-48D5-B8E1-4AD6ACA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71E5-C356-4799-89F4-3310A79230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53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5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9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package" Target="../embeddings/oleObject2.docx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package" Target="../embeddings/oleObject1.docx"/><Relationship Id="rId9" Type="http://schemas.openxmlformats.org/officeDocument/2006/relationships/image" Target="../media/image14.wmf"/><Relationship Id="rId10" Type="http://schemas.openxmlformats.org/officeDocument/2006/relationships/package" Target="../embeddings/oleObject2.docx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7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4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9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4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8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广义积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60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3" name="Object 29"/>
          <p:cNvGraphicFramePr/>
          <p:nvPr/>
        </p:nvGraphicFramePr>
        <p:xfrm>
          <a:off x="611280" y="836640"/>
          <a:ext cx="7462800" cy="12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4628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0"/>
          <p:cNvGraphicFramePr/>
          <p:nvPr/>
        </p:nvGraphicFramePr>
        <p:xfrm>
          <a:off x="826920" y="1844640"/>
          <a:ext cx="5751720" cy="136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6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844640"/>
                    <a:ext cx="5751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0"/>
          <p:cNvGraphicFramePr/>
          <p:nvPr/>
        </p:nvGraphicFramePr>
        <p:xfrm>
          <a:off x="1476360" y="5013360"/>
          <a:ext cx="5040360" cy="1357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48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5013360"/>
                    <a:ext cx="50403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7"/>
          <p:cNvGraphicFramePr/>
          <p:nvPr/>
        </p:nvGraphicFramePr>
        <p:xfrm>
          <a:off x="2916360" y="4076640"/>
          <a:ext cx="4319640" cy="733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16360" y="4076640"/>
                    <a:ext cx="43196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0"/>
          <p:cNvGraphicFramePr/>
          <p:nvPr/>
        </p:nvGraphicFramePr>
        <p:xfrm>
          <a:off x="2268360" y="2924280"/>
          <a:ext cx="5978880" cy="16984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53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68360" y="2924280"/>
                    <a:ext cx="597888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7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6" name="Object 29"/>
          <p:cNvGraphicFramePr/>
          <p:nvPr/>
        </p:nvGraphicFramePr>
        <p:xfrm>
          <a:off x="611280" y="836640"/>
          <a:ext cx="7462800" cy="12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77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4628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28"/>
          <p:cNvGraphicFramePr/>
          <p:nvPr/>
        </p:nvGraphicFramePr>
        <p:xfrm>
          <a:off x="971640" y="1916280"/>
          <a:ext cx="2520720" cy="81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1916280"/>
                    <a:ext cx="2520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29"/>
          <p:cNvGraphicFramePr/>
          <p:nvPr/>
        </p:nvGraphicFramePr>
        <p:xfrm>
          <a:off x="3635280" y="1989000"/>
          <a:ext cx="2308320" cy="71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1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35280" y="1989000"/>
                    <a:ext cx="230832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30"/>
          <p:cNvGraphicFramePr/>
          <p:nvPr/>
        </p:nvGraphicFramePr>
        <p:xfrm>
          <a:off x="3635280" y="3141720"/>
          <a:ext cx="3610080" cy="83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3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35280" y="3141720"/>
                    <a:ext cx="36100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30"/>
          <p:cNvGraphicFramePr/>
          <p:nvPr/>
        </p:nvGraphicFramePr>
        <p:xfrm>
          <a:off x="1476360" y="4437000"/>
          <a:ext cx="5327640" cy="14302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85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76360" y="4437000"/>
                    <a:ext cx="53276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2"/>
          <p:cNvGraphicFramePr/>
          <p:nvPr/>
        </p:nvGraphicFramePr>
        <p:xfrm>
          <a:off x="3333600" y="3933720"/>
          <a:ext cx="1959120" cy="524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8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33600" y="3933720"/>
                    <a:ext cx="19591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50"/>
          <p:cNvSpPr/>
          <p:nvPr/>
        </p:nvSpPr>
        <p:spPr>
          <a:xfrm>
            <a:off x="1619280" y="31669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义积分的概念及计算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0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826920" y="1380960"/>
          <a:ext cx="4969080" cy="215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380960"/>
                    <a:ext cx="496908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611280" y="836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1"/>
          <p:cNvSpPr/>
          <p:nvPr/>
        </p:nvSpPr>
        <p:spPr>
          <a:xfrm>
            <a:off x="6600960" y="3019320"/>
            <a:ext cx="1130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2" descr=""/>
          <p:cNvPicPr/>
          <p:nvPr/>
        </p:nvPicPr>
        <p:blipFill>
          <a:blip r:embed="rId9"/>
          <a:stretch/>
        </p:blipFill>
        <p:spPr>
          <a:xfrm>
            <a:off x="5724360" y="836640"/>
            <a:ext cx="3024360" cy="2676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4"/>
          <p:cNvSpPr/>
          <p:nvPr/>
        </p:nvSpPr>
        <p:spPr>
          <a:xfrm>
            <a:off x="5935680" y="4454640"/>
            <a:ext cx="1131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5" descr=""/>
          <p:cNvPicPr/>
          <p:nvPr/>
        </p:nvPicPr>
        <p:blipFill>
          <a:blip r:embed="rId10"/>
          <a:stretch/>
        </p:blipFill>
        <p:spPr>
          <a:xfrm>
            <a:off x="5724360" y="3573360"/>
            <a:ext cx="3024360" cy="27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36"/>
          <p:cNvGraphicFramePr/>
          <p:nvPr/>
        </p:nvGraphicFramePr>
        <p:xfrm>
          <a:off x="546120" y="3497400"/>
          <a:ext cx="5610240" cy="13716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79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120" y="3497400"/>
                    <a:ext cx="56102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4"/>
          <p:cNvGraphicFramePr/>
          <p:nvPr/>
        </p:nvGraphicFramePr>
        <p:xfrm>
          <a:off x="900000" y="4653000"/>
          <a:ext cx="2232000" cy="10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" name="Object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00000" y="4653000"/>
                    <a:ext cx="223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6"/>
          <p:cNvGraphicFramePr/>
          <p:nvPr/>
        </p:nvGraphicFramePr>
        <p:xfrm>
          <a:off x="3203640" y="4581360"/>
          <a:ext cx="2305080" cy="114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3640" y="4581360"/>
                    <a:ext cx="230508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7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6600960" y="3019320"/>
            <a:ext cx="1130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"/>
          <p:cNvPicPr/>
          <p:nvPr/>
        </p:nvPicPr>
        <p:blipFill>
          <a:blip r:embed="rId6"/>
          <a:stretch/>
        </p:blipFill>
        <p:spPr>
          <a:xfrm>
            <a:off x="5724360" y="549360"/>
            <a:ext cx="3009960" cy="26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4"/>
          <p:cNvSpPr/>
          <p:nvPr/>
        </p:nvSpPr>
        <p:spPr>
          <a:xfrm>
            <a:off x="5935680" y="4454640"/>
            <a:ext cx="1131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5" descr=""/>
          <p:cNvPicPr/>
          <p:nvPr/>
        </p:nvPicPr>
        <p:blipFill>
          <a:blip r:embed="rId7"/>
          <a:stretch/>
        </p:blipFill>
        <p:spPr>
          <a:xfrm>
            <a:off x="5651640" y="3141720"/>
            <a:ext cx="2982600" cy="26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6"/>
          <p:cNvGraphicFramePr/>
          <p:nvPr/>
        </p:nvGraphicFramePr>
        <p:xfrm>
          <a:off x="755640" y="1268280"/>
          <a:ext cx="5111640" cy="1968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2" name="Object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268280"/>
                    <a:ext cx="51116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37"/>
          <p:cNvGraphicFramePr/>
          <p:nvPr/>
        </p:nvGraphicFramePr>
        <p:xfrm>
          <a:off x="468360" y="3068640"/>
          <a:ext cx="5616360" cy="2863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14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068640"/>
                    <a:ext cx="56163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1042920" y="5084640"/>
          <a:ext cx="3889440" cy="80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5084640"/>
                    <a:ext cx="38894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Object 2"/>
          <p:cNvGraphicFramePr/>
          <p:nvPr/>
        </p:nvGraphicFramePr>
        <p:xfrm>
          <a:off x="468360" y="765000"/>
          <a:ext cx="8351640" cy="201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765000"/>
                    <a:ext cx="835164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27"/>
          <p:cNvGraphicFramePr/>
          <p:nvPr/>
        </p:nvGraphicFramePr>
        <p:xfrm>
          <a:off x="684360" y="2060640"/>
          <a:ext cx="7462800" cy="1873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060640"/>
                    <a:ext cx="74628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8"/>
          <p:cNvGraphicFramePr/>
          <p:nvPr/>
        </p:nvGraphicFramePr>
        <p:xfrm>
          <a:off x="395280" y="2997360"/>
          <a:ext cx="8164440" cy="15714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45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2997360"/>
                    <a:ext cx="816444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4"/>
          <p:cNvGraphicFramePr/>
          <p:nvPr/>
        </p:nvGraphicFramePr>
        <p:xfrm>
          <a:off x="539640" y="5013360"/>
          <a:ext cx="7704360" cy="1297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5013360"/>
                    <a:ext cx="77043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5"/>
          <p:cNvGraphicFramePr/>
          <p:nvPr/>
        </p:nvGraphicFramePr>
        <p:xfrm>
          <a:off x="2050920" y="4221000"/>
          <a:ext cx="3936960" cy="792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0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50920" y="4221000"/>
                    <a:ext cx="39369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3" name="Object 30"/>
          <p:cNvGraphicFramePr/>
          <p:nvPr/>
        </p:nvGraphicFramePr>
        <p:xfrm>
          <a:off x="468360" y="692280"/>
          <a:ext cx="8424720" cy="15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4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692280"/>
                    <a:ext cx="8424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2"/>
          <p:cNvGraphicFramePr/>
          <p:nvPr/>
        </p:nvGraphicFramePr>
        <p:xfrm>
          <a:off x="539640" y="3645000"/>
          <a:ext cx="8209080" cy="136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6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645000"/>
                    <a:ext cx="82090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2124000" y="1916280"/>
          <a:ext cx="364356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1916280"/>
                    <a:ext cx="3643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2"/>
          <p:cNvGraphicFramePr/>
          <p:nvPr/>
        </p:nvGraphicFramePr>
        <p:xfrm>
          <a:off x="468360" y="2492280"/>
          <a:ext cx="8244000" cy="122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2492280"/>
                    <a:ext cx="824400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13"/>
          <p:cNvGraphicFramePr/>
          <p:nvPr/>
        </p:nvGraphicFramePr>
        <p:xfrm>
          <a:off x="2484360" y="4508640"/>
          <a:ext cx="5110200" cy="7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4508640"/>
                    <a:ext cx="5110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5"/>
          <p:cNvGraphicFramePr/>
          <p:nvPr/>
        </p:nvGraphicFramePr>
        <p:xfrm>
          <a:off x="395280" y="5373720"/>
          <a:ext cx="8424720" cy="719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5280" y="5373720"/>
                    <a:ext cx="84247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Object 2"/>
          <p:cNvGraphicFramePr/>
          <p:nvPr/>
        </p:nvGraphicFramePr>
        <p:xfrm>
          <a:off x="826920" y="907920"/>
          <a:ext cx="5186520" cy="1285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07920"/>
                    <a:ext cx="5186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7"/>
          <p:cNvGraphicFramePr/>
          <p:nvPr/>
        </p:nvGraphicFramePr>
        <p:xfrm>
          <a:off x="324000" y="1557360"/>
          <a:ext cx="5016240" cy="1295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1557360"/>
                    <a:ext cx="5016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8"/>
          <p:cNvGraphicFramePr/>
          <p:nvPr/>
        </p:nvGraphicFramePr>
        <p:xfrm>
          <a:off x="468360" y="4076640"/>
          <a:ext cx="7272360" cy="1308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1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4076640"/>
                    <a:ext cx="72723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31"/>
          <p:cNvGraphicFramePr/>
          <p:nvPr/>
        </p:nvGraphicFramePr>
        <p:xfrm>
          <a:off x="4427640" y="1628640"/>
          <a:ext cx="188748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7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27640" y="1628640"/>
                    <a:ext cx="1887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3"/>
          <p:cNvGraphicFramePr/>
          <p:nvPr/>
        </p:nvGraphicFramePr>
        <p:xfrm>
          <a:off x="6372360" y="1700280"/>
          <a:ext cx="230652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9" name="Object 3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72360" y="1700280"/>
                    <a:ext cx="23065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7"/>
          <p:cNvGraphicFramePr/>
          <p:nvPr/>
        </p:nvGraphicFramePr>
        <p:xfrm>
          <a:off x="755640" y="2637000"/>
          <a:ext cx="7742160" cy="939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1" name="Object 3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5640" y="2637000"/>
                    <a:ext cx="77421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8"/>
          <p:cNvGraphicFramePr/>
          <p:nvPr/>
        </p:nvGraphicFramePr>
        <p:xfrm>
          <a:off x="1619280" y="5013360"/>
          <a:ext cx="4824360" cy="904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4" name="Object 3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19280" y="5013360"/>
                    <a:ext cx="48243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4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Object 29"/>
          <p:cNvGraphicFramePr/>
          <p:nvPr/>
        </p:nvGraphicFramePr>
        <p:xfrm>
          <a:off x="755640" y="1052640"/>
          <a:ext cx="5962680" cy="143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8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052640"/>
                    <a:ext cx="59626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30"/>
          <p:cNvGraphicFramePr/>
          <p:nvPr/>
        </p:nvGraphicFramePr>
        <p:xfrm>
          <a:off x="754200" y="2197080"/>
          <a:ext cx="5838840" cy="1652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0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2197080"/>
                    <a:ext cx="58388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30"/>
          <p:cNvGraphicFramePr/>
          <p:nvPr/>
        </p:nvGraphicFramePr>
        <p:xfrm>
          <a:off x="3851280" y="3429000"/>
          <a:ext cx="451656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3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51280" y="3429000"/>
                    <a:ext cx="4516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32"/>
          <p:cNvGraphicFramePr/>
          <p:nvPr/>
        </p:nvGraphicFramePr>
        <p:xfrm>
          <a:off x="3924360" y="2421000"/>
          <a:ext cx="2286000" cy="77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5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24360" y="2421000"/>
                    <a:ext cx="2286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3"/>
          <p:cNvGraphicFramePr/>
          <p:nvPr/>
        </p:nvGraphicFramePr>
        <p:xfrm>
          <a:off x="3924360" y="4292640"/>
          <a:ext cx="2411280" cy="1008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7" name="Object 3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4360" y="4292640"/>
                    <a:ext cx="24112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7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7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Object 29"/>
          <p:cNvGraphicFramePr/>
          <p:nvPr/>
        </p:nvGraphicFramePr>
        <p:xfrm>
          <a:off x="754200" y="770040"/>
          <a:ext cx="6464160" cy="1555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1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770040"/>
                    <a:ext cx="646416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30"/>
          <p:cNvGraphicFramePr/>
          <p:nvPr/>
        </p:nvGraphicFramePr>
        <p:xfrm>
          <a:off x="826920" y="2276640"/>
          <a:ext cx="6194520" cy="1753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83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2276640"/>
                    <a:ext cx="619452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3765600" y="3627360"/>
          <a:ext cx="2913120" cy="104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65600" y="3627360"/>
                    <a:ext cx="291312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5"/>
          <p:cNvGraphicFramePr/>
          <p:nvPr/>
        </p:nvGraphicFramePr>
        <p:xfrm>
          <a:off x="3616200" y="2205000"/>
          <a:ext cx="2400480" cy="127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16200" y="2205000"/>
                    <a:ext cx="240048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6"/>
          <p:cNvGraphicFramePr/>
          <p:nvPr/>
        </p:nvGraphicFramePr>
        <p:xfrm>
          <a:off x="3851280" y="4869000"/>
          <a:ext cx="1146240" cy="110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4869000"/>
                    <a:ext cx="1146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0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3" name="Object 2"/>
          <p:cNvGraphicFramePr/>
          <p:nvPr/>
        </p:nvGraphicFramePr>
        <p:xfrm>
          <a:off x="826920" y="981000"/>
          <a:ext cx="6562800" cy="1505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65628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28"/>
          <p:cNvGraphicFramePr/>
          <p:nvPr/>
        </p:nvGraphicFramePr>
        <p:xfrm>
          <a:off x="826920" y="1916280"/>
          <a:ext cx="6050160" cy="1452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1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916280"/>
                    <a:ext cx="6050160" cy="14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8"/>
          <p:cNvGraphicFramePr/>
          <p:nvPr/>
        </p:nvGraphicFramePr>
        <p:xfrm>
          <a:off x="1332000" y="4076640"/>
          <a:ext cx="5962680" cy="1362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1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32000" y="4076640"/>
                    <a:ext cx="5962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31"/>
          <p:cNvGraphicFramePr/>
          <p:nvPr/>
        </p:nvGraphicFramePr>
        <p:xfrm>
          <a:off x="3419640" y="2997360"/>
          <a:ext cx="3244680" cy="825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0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9640" y="2997360"/>
                    <a:ext cx="3244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8:54Z</dcterms:modified>
  <cp:revision>73</cp:revision>
  <dc:subject/>
  <dc:title>幻灯片 1</dc:title>
</cp:coreProperties>
</file>